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20840" y="3313080"/>
            <a:ext cx="9072360" cy="122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8200"/>
            <a:ext cx="8607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7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68760" y="7174080"/>
            <a:ext cx="319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eptember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43880" y="7149960"/>
            <a:ext cx="2100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fld id="{707AE393-7BF2-4089-AA75-8298FD06B0CF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4280" y="121752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692928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9400" y="1539720"/>
            <a:ext cx="6721560" cy="44802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400" y="14400"/>
            <a:ext cx="4032000" cy="55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15640" y="4427640"/>
            <a:ext cx="86058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ccelerated Xen networking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arly performance resul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433520"/>
          <a:ext cx="10080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3520"/>
                    <a:ext cx="10080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PU Usag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03280" y="1428840"/>
          <a:ext cx="8982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428840"/>
                    <a:ext cx="8982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hat's next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4720" y="1427040"/>
            <a:ext cx="898704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Submission of patch to xen-d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ome small changes contributed alrea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Convenient to fold bend and fend into mainlin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e features to have in next-gen hardwar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AC filtering (on receive and transmi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SIX (interrupt line per gues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Local dest tx DMA-ed directly to local gues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6000" y="1426680"/>
            <a:ext cx="964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olarflare does user-level networking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CP/IP stack linked with user app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SolarStor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8440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mart NIC allows safe access from user-mod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nboard IOMMU for safe DMA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ic’s filter-table demuxes incoming packets to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Queues get mapped into user-mode process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liminates interrupts/syscalls/context switche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an also do zero-copy tx from user-mod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Virtual Interfaces and Prot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280" y="1547280"/>
            <a:ext cx="89233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 has many Virtual Interfaces (VIs)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 = Filter + DMA queue + event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VIs largely about 'protection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llow untrusted entities to access the NIC without compromising system integr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s mapped into untrusted entity’s address spa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Traditionally 'untrusted entity' means user process    ... but it might equally mean a guest VM kern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Xen: I/O via Dom0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16318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ll 'real' drivers live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mU kernels have pseudo drivers that communicate with Dom0 via the hypervisor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ecessary because only Dom0 is 'trusted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5292720"/>
            <a:ext cx="194472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4428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6120" y="563040"/>
            <a:ext cx="84834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But with SolarStorm..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1402920"/>
            <a:ext cx="91962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Accelerated routes set up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Then DomU can access hardware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DomU can access hardware directly + safely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t least most of the time; still slow path via Dom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6560" y="5292720"/>
            <a:ext cx="172908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1260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53080" y="5292720"/>
            <a:ext cx="0" cy="1008000"/>
          </a:xfrm>
          <a:prstGeom prst="line">
            <a:avLst/>
          </a:prstGeom>
          <a:ln w="442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ront-end and back-en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547280"/>
            <a:ext cx="9575640" cy="52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Front-end driver in DomU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Where possible, interacts with h/w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his is known as “fast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Otherwise packets routed via Dom0: “slow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Need to be careful about Tx traffic for local mach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Back-end driver lives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ts up VI per guest V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nstalls filters “on-demand” as traffic flows in/ou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forces quotas on front-end driv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11640" y="1332000"/>
            <a:ext cx="3816360" cy="4032000"/>
          </a:xfrm>
          <a:prstGeom prst="rect">
            <a:avLst/>
          </a:prstGeom>
          <a:solidFill>
            <a:srgbClr val="ff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1332000"/>
            <a:ext cx="2951280" cy="4032000"/>
          </a:xfrm>
          <a:prstGeom prst="rect">
            <a:avLst/>
          </a:prstGeom>
          <a:solidFill>
            <a:srgbClr val="cc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8000" y="2050920"/>
            <a:ext cx="2448000" cy="2952720"/>
          </a:xfrm>
          <a:custGeom>
            <a:avLst/>
            <a:gdLst/>
            <a:ahLst/>
            <a:rect l="l" t="t" r="r" b="b"/>
            <a:pathLst>
              <a:path w="1542" h="1860">
                <a:moveTo>
                  <a:pt x="0" y="1860"/>
                </a:moveTo>
                <a:lnTo>
                  <a:pt x="0" y="0"/>
                </a:lnTo>
                <a:lnTo>
                  <a:pt x="1542" y="0"/>
                </a:lnTo>
                <a:lnTo>
                  <a:pt x="1542" y="227"/>
                </a:lnTo>
                <a:lnTo>
                  <a:pt x="363" y="227"/>
                </a:lnTo>
                <a:lnTo>
                  <a:pt x="363" y="1860"/>
                </a:lnTo>
                <a:lnTo>
                  <a:pt x="0" y="186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11640" y="1619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000" y="2050920"/>
            <a:ext cx="1440000" cy="30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96000" y="2508120"/>
            <a:ext cx="1800000" cy="24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52680" y="20271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/w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3640" y="4282920"/>
            <a:ext cx="1944360" cy="503280"/>
          </a:xfrm>
          <a:prstGeom prst="leftRightArrow">
            <a:avLst>
              <a:gd name="adj1" fmla="val 50000"/>
              <a:gd name="adj2" fmla="val 769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8120" y="4348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240984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248292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35280" y="2554200"/>
            <a:ext cx="1152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4000" y="2625840"/>
            <a:ext cx="1152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08000" y="5580000"/>
            <a:ext cx="1295640" cy="720720"/>
            <a:chOff x="1008000" y="5580000"/>
            <a:chExt cx="1295640" cy="720720"/>
          </a:xfrm>
        </p:grpSpPr>
        <p:sp>
          <p:nvSpPr>
            <p:cNvPr id="124" name=""/>
            <p:cNvSpPr/>
            <p:nvPr/>
          </p:nvSpPr>
          <p:spPr>
            <a:xfrm>
              <a:off x="1008000" y="608472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800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000" y="558000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7164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36720" y="5651640"/>
            <a:ext cx="1295280" cy="720720"/>
            <a:chOff x="936720" y="5651640"/>
            <a:chExt cx="1295280" cy="720720"/>
          </a:xfrm>
        </p:grpSpPr>
        <p:sp>
          <p:nvSpPr>
            <p:cNvPr id="129" name=""/>
            <p:cNvSpPr/>
            <p:nvPr/>
          </p:nvSpPr>
          <p:spPr>
            <a:xfrm>
              <a:off x="936720" y="6156360"/>
              <a:ext cx="1295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3672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8360" y="5651640"/>
              <a:ext cx="43128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0000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92000" y="5724360"/>
            <a:ext cx="1295640" cy="720720"/>
            <a:chOff x="792000" y="5724360"/>
            <a:chExt cx="1295640" cy="720720"/>
          </a:xfrm>
        </p:grpSpPr>
        <p:sp>
          <p:nvSpPr>
            <p:cNvPr id="134" name=""/>
            <p:cNvSpPr/>
            <p:nvPr/>
          </p:nvSpPr>
          <p:spPr>
            <a:xfrm>
              <a:off x="792000" y="622908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00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4000" y="572436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564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184720" y="5651640"/>
            <a:ext cx="1295280" cy="720720"/>
            <a:chOff x="5184720" y="5651640"/>
            <a:chExt cx="1295280" cy="720720"/>
          </a:xfrm>
        </p:grpSpPr>
        <p:sp>
          <p:nvSpPr>
            <p:cNvPr id="139" name=""/>
            <p:cNvSpPr/>
            <p:nvPr/>
          </p:nvSpPr>
          <p:spPr>
            <a:xfrm>
              <a:off x="5184720" y="6156360"/>
              <a:ext cx="1295280" cy="216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472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6360" y="5651640"/>
              <a:ext cx="43128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800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2087640" y="5651280"/>
            <a:ext cx="309708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87640" y="6372360"/>
            <a:ext cx="3024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5364000"/>
            <a:ext cx="676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279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07320" y="12794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4880" y="3274920"/>
            <a:ext cx="20782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hared p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x/Rx bu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MAC tb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ront-end driv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1331640"/>
            <a:ext cx="928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end communicates with bend over FIFO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mplemented using shared pag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ront-end driver split into two part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ardware dependent and independent par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/w independent part loads h/w dependent par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lects based on message from back-e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 Linux, this message is just name of a modu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n-fatal error if h/w dependent module not f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0000" y="1331640"/>
            <a:ext cx="943308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On migration, back-end sends ‘h/w unavailable’ message to front-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verything then goes over slow-pat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Possibly followed by ‘new h/w available’ message at the other 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If no accelerated hardware available, or if no driver for that hardware available: slow path!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g Law</cp:lastModifiedBy>
  <dcterms:modified xsi:type="dcterms:W3CDTF">2006-09-19T15:10:23Z</dcterms:modified>
  <cp:revision>15</cp:revision>
  <dc:subject/>
  <dc:title>Slide 1</dc:title>
</cp:coreProperties>
</file>