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76120" y="408960"/>
            <a:ext cx="8481960" cy="849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b">
            <a:noAutofit/>
          </a:bodyPr>
          <a:p>
            <a:pPr indent="0"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04360" y="1426680"/>
            <a:ext cx="898524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360" y="4322520"/>
            <a:ext cx="898524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76120" y="408960"/>
            <a:ext cx="8481960" cy="849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b">
            <a:noAutofit/>
          </a:bodyPr>
          <a:p>
            <a:pPr indent="0"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426680"/>
            <a:ext cx="438444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08400" y="1426680"/>
            <a:ext cx="438444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360" y="4322520"/>
            <a:ext cx="438444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108400" y="4322520"/>
            <a:ext cx="438444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6120" y="408960"/>
            <a:ext cx="8481960" cy="849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b">
            <a:noAutofit/>
          </a:bodyPr>
          <a:p>
            <a:pPr indent="0"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04360" y="1426680"/>
            <a:ext cx="289296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42400" y="1426680"/>
            <a:ext cx="289296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580440" y="1426680"/>
            <a:ext cx="289296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4360" y="4322520"/>
            <a:ext cx="289296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542400" y="4322520"/>
            <a:ext cx="289296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580440" y="4322520"/>
            <a:ext cx="289296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76120" y="408960"/>
            <a:ext cx="8481960" cy="849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b">
            <a:noAutofit/>
          </a:bodyPr>
          <a:p>
            <a:pPr indent="0"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4360" y="1426680"/>
            <a:ext cx="8985240" cy="55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1" lang="en-US" sz="2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6120" y="408960"/>
            <a:ext cx="8481960" cy="849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b">
            <a:noAutofit/>
          </a:bodyPr>
          <a:p>
            <a:pPr indent="0"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4360" y="1426680"/>
            <a:ext cx="8985240" cy="55436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6120" y="408960"/>
            <a:ext cx="8481960" cy="849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b">
            <a:noAutofit/>
          </a:bodyPr>
          <a:p>
            <a:pPr indent="0"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4360" y="1426680"/>
            <a:ext cx="4384440" cy="55436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108400" y="1426680"/>
            <a:ext cx="4384440" cy="55436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76120" y="408960"/>
            <a:ext cx="8481960" cy="849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b">
            <a:noAutofit/>
          </a:bodyPr>
          <a:p>
            <a:pPr indent="0"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176120" y="420840"/>
            <a:ext cx="84819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1" lang="en-US" sz="2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6120" y="408960"/>
            <a:ext cx="8481960" cy="849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b">
            <a:noAutofit/>
          </a:bodyPr>
          <a:p>
            <a:pPr indent="0"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4360" y="1426680"/>
            <a:ext cx="438444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108400" y="1426680"/>
            <a:ext cx="4384440" cy="55436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4360" y="4322520"/>
            <a:ext cx="438444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176120" y="408960"/>
            <a:ext cx="8481960" cy="849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b">
            <a:noAutofit/>
          </a:bodyPr>
          <a:p>
            <a:pPr indent="0"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504360" y="1426680"/>
            <a:ext cx="8985240" cy="55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1" lang="en-US" sz="2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76120" y="408960"/>
            <a:ext cx="8481960" cy="849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b">
            <a:noAutofit/>
          </a:bodyPr>
          <a:p>
            <a:pPr indent="0"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4360" y="1426680"/>
            <a:ext cx="4384440" cy="55436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08400" y="1426680"/>
            <a:ext cx="438444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108400" y="4322520"/>
            <a:ext cx="438444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76120" y="408960"/>
            <a:ext cx="8481960" cy="849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b">
            <a:noAutofit/>
          </a:bodyPr>
          <a:p>
            <a:pPr indent="0"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4360" y="1426680"/>
            <a:ext cx="438444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08400" y="1426680"/>
            <a:ext cx="438444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4360" y="4322520"/>
            <a:ext cx="898524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76120" y="408960"/>
            <a:ext cx="8481960" cy="849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b">
            <a:noAutofit/>
          </a:bodyPr>
          <a:p>
            <a:pPr indent="0"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426680"/>
            <a:ext cx="898524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360" y="4322520"/>
            <a:ext cx="898524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76120" y="408960"/>
            <a:ext cx="8481960" cy="849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b">
            <a:noAutofit/>
          </a:bodyPr>
          <a:p>
            <a:pPr indent="0"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4360" y="1426680"/>
            <a:ext cx="438444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08400" y="1426680"/>
            <a:ext cx="438444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4360" y="4322520"/>
            <a:ext cx="438444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108400" y="4322520"/>
            <a:ext cx="438444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76120" y="408960"/>
            <a:ext cx="8481960" cy="849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b">
            <a:noAutofit/>
          </a:bodyPr>
          <a:p>
            <a:pPr indent="0"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4360" y="1426680"/>
            <a:ext cx="289296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542400" y="1426680"/>
            <a:ext cx="289296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580440" y="1426680"/>
            <a:ext cx="289296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4360" y="4322520"/>
            <a:ext cx="289296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542400" y="4322520"/>
            <a:ext cx="289296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580440" y="4322520"/>
            <a:ext cx="289296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76120" y="408960"/>
            <a:ext cx="8481960" cy="849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b">
            <a:noAutofit/>
          </a:bodyPr>
          <a:p>
            <a:pPr indent="0"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4360" y="1426680"/>
            <a:ext cx="8985240" cy="55436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76120" y="408960"/>
            <a:ext cx="8481960" cy="849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b">
            <a:noAutofit/>
          </a:bodyPr>
          <a:p>
            <a:pPr indent="0"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4360" y="1426680"/>
            <a:ext cx="4384440" cy="55436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108400" y="1426680"/>
            <a:ext cx="4384440" cy="55436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76120" y="408960"/>
            <a:ext cx="8481960" cy="849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b">
            <a:noAutofit/>
          </a:bodyPr>
          <a:p>
            <a:pPr indent="0"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176120" y="420840"/>
            <a:ext cx="84819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1" lang="en-US" sz="2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76120" y="408960"/>
            <a:ext cx="8481960" cy="849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b">
            <a:noAutofit/>
          </a:bodyPr>
          <a:p>
            <a:pPr indent="0"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04360" y="1426680"/>
            <a:ext cx="438444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08400" y="1426680"/>
            <a:ext cx="4384440" cy="55436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504360" y="4322520"/>
            <a:ext cx="438444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6120" y="408960"/>
            <a:ext cx="8481960" cy="849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b">
            <a:noAutofit/>
          </a:bodyPr>
          <a:p>
            <a:pPr indent="0"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426680"/>
            <a:ext cx="4384440" cy="55436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08400" y="1426680"/>
            <a:ext cx="438444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08400" y="4322520"/>
            <a:ext cx="438444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76120" y="408960"/>
            <a:ext cx="8481960" cy="849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b">
            <a:noAutofit/>
          </a:bodyPr>
          <a:p>
            <a:pPr indent="0"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04360" y="1426680"/>
            <a:ext cx="438444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08400" y="1426680"/>
            <a:ext cx="438444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4360" y="4322520"/>
            <a:ext cx="898524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420840" y="3313080"/>
            <a:ext cx="9072360" cy="12225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39440" y="628200"/>
            <a:ext cx="86072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39440" y="2101320"/>
            <a:ext cx="8607240" cy="47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spcBef>
                <a:spcPts val="825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1" marL="817560" indent="-314280">
              <a:spcBef>
                <a:spcPts val="825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2" marL="1260360" indent="-252360">
              <a:spcBef>
                <a:spcPts val="825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3" marL="1763640" indent="-252360">
              <a:spcBef>
                <a:spcPts val="825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4" marL="2268360" indent="-252360">
              <a:spcBef>
                <a:spcPts val="825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5" marL="2268360" indent="-252360">
              <a:spcBef>
                <a:spcPts val="825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6" marL="2268360" indent="-252360">
              <a:spcBef>
                <a:spcPts val="825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3668760" y="7174080"/>
            <a:ext cx="31924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51480" bIns="5148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3120"/>
                <a:tab algn="l" pos="8061480"/>
                <a:tab algn="l" pos="9069480"/>
                <a:tab algn="l" pos="10077480"/>
                <a:tab algn="l" pos="11085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September 2006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7643880" y="7149960"/>
            <a:ext cx="210024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51480" bIns="5148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3120"/>
                <a:tab algn="l" pos="8061480"/>
                <a:tab algn="l" pos="9069480"/>
                <a:tab algn="l" pos="10077480"/>
                <a:tab algn="l" pos="11085480"/>
              </a:tabLst>
            </a:pPr>
            <a:fld id="{BD87270E-9D93-4F22-9A27-B96584C6DE96}" type="slidenum">
              <a:rPr b="0" lang="en-US" sz="13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314280" y="1217520"/>
            <a:ext cx="9597960" cy="76320"/>
          </a:xfrm>
          <a:prstGeom prst="roundRect">
            <a:avLst>
              <a:gd name="adj" fmla="val 2380"/>
            </a:avLst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0" bIns="28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4280" y="6929280"/>
            <a:ext cx="9597960" cy="76320"/>
          </a:xfrm>
          <a:prstGeom prst="roundRect">
            <a:avLst>
              <a:gd name="adj" fmla="val 2380"/>
            </a:avLst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0" bIns="28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9400" y="1539720"/>
            <a:ext cx="6721560" cy="4480200"/>
          </a:xfrm>
          <a:prstGeom prst="roundRect">
            <a:avLst>
              <a:gd name="adj" fmla="val 3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14400" y="14400"/>
            <a:ext cx="4032000" cy="5508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6120" y="420840"/>
            <a:ext cx="8481960" cy="8380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b">
            <a:noAutofit/>
          </a:bodyPr>
          <a:p>
            <a:pPr indent="0"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504360" y="1426680"/>
            <a:ext cx="8985240" cy="55436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marL="376200" indent="-376200">
              <a:spcBef>
                <a:spcPts val="825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1" marL="817560" indent="-314280">
              <a:spcBef>
                <a:spcPts val="825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2" marL="1260360" indent="-252360">
              <a:spcBef>
                <a:spcPts val="825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3" marL="1763640" indent="-252360">
              <a:spcBef>
                <a:spcPts val="825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4" marL="2268360" indent="-252360">
              <a:spcBef>
                <a:spcPts val="825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5" marL="2268360" indent="-252360">
              <a:spcBef>
                <a:spcPts val="825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6" marL="2268360" indent="-252360">
              <a:spcBef>
                <a:spcPts val="825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2015640" y="4427640"/>
            <a:ext cx="8605800" cy="15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42004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Tahoma"/>
              </a:rPr>
              <a:t>Accelerated Xen networking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76120" y="420840"/>
            <a:ext cx="8481960" cy="8380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b">
            <a:noAutofit/>
          </a:bodyPr>
          <a:p>
            <a:pPr indent="0"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Early performance results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0" y="1433520"/>
          <a:ext cx="10080720" cy="544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433520"/>
                    <a:ext cx="10080720" cy="544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76120" y="420840"/>
            <a:ext cx="8481960" cy="8380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b">
            <a:noAutofit/>
          </a:bodyPr>
          <a:p>
            <a:pPr indent="0"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PU Usage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503280" y="1428840"/>
          <a:ext cx="8982000" cy="554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3280" y="1428840"/>
                    <a:ext cx="8982000" cy="554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76120" y="420840"/>
            <a:ext cx="848340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What's next?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04720" y="1427040"/>
            <a:ext cx="8987040" cy="55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spcBef>
                <a:spcPts val="825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ahoma"/>
              </a:rPr>
              <a:t>Submission of patch to xen-devel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1" marL="861840" indent="-285480">
              <a:spcBef>
                <a:spcPts val="711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ahoma"/>
              </a:rPr>
              <a:t>Some small changes contributed already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1" marL="861840" indent="-285480">
              <a:spcBef>
                <a:spcPts val="711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ahoma"/>
              </a:rPr>
              <a:t>Convenient to fold bend and fend into mainline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1" marL="861840" indent="0">
              <a:spcBef>
                <a:spcPts val="711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431640" indent="-323640">
              <a:spcBef>
                <a:spcPts val="825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ahoma"/>
              </a:rPr>
              <a:t>Nice features to have in next-gen hardware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1" marL="861840" indent="-285480">
              <a:spcBef>
                <a:spcPts val="711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ahoma"/>
              </a:rPr>
              <a:t>MAC filtering (on receive and transmit)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1" marL="861840" indent="-285480">
              <a:spcBef>
                <a:spcPts val="711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ahoma"/>
              </a:rPr>
              <a:t>MSIX (interrupt line per guest)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1" marL="861840" indent="-285480">
              <a:spcBef>
                <a:spcPts val="711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ahoma"/>
              </a:rPr>
              <a:t>Local dest tx DMA-ed directly to local guest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76120" y="420840"/>
            <a:ext cx="8481960" cy="8380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b">
            <a:noAutofit/>
          </a:bodyPr>
          <a:p>
            <a:pPr indent="0"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Background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16000" y="1426680"/>
            <a:ext cx="9648720" cy="55436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 fontScale="94000"/>
          </a:bodyPr>
          <a:p>
            <a:pPr marL="353520" indent="-353520">
              <a:spcBef>
                <a:spcPts val="825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Solarflare does user-level networking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1" marL="768240" indent="-295200">
              <a:spcBef>
                <a:spcPts val="711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  <a:tab algn="l" pos="104014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TCP/IP stack linked with user app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1" marL="768240" indent="-295200">
              <a:spcBef>
                <a:spcPts val="711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  <a:tab algn="l" pos="104014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Known as </a:t>
            </a:r>
            <a:r>
              <a:rPr b="0" i="1" lang="en-US" sz="2900" spc="-1" strike="noStrike">
                <a:solidFill>
                  <a:srgbClr val="000000"/>
                </a:solidFill>
                <a:latin typeface="Tahoma"/>
              </a:rPr>
              <a:t>SolarStorm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2" marL="1184400" indent="0">
              <a:spcBef>
                <a:spcPts val="663"/>
              </a:spcBef>
              <a:buNone/>
              <a:tabLst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53520" indent="-353520">
              <a:spcBef>
                <a:spcPts val="825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Smart NIC allows safe access from user-mode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1" marL="768240" indent="-295200">
              <a:spcBef>
                <a:spcPts val="711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  <a:tab algn="l" pos="104014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Onboard IOMMU for safe DMA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1" marL="768240" indent="-295200">
              <a:spcBef>
                <a:spcPts val="711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  <a:tab algn="l" pos="104014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Nic’s filter-table demuxes incoming packets to queue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1" marL="768240" indent="-295200">
              <a:spcBef>
                <a:spcPts val="711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  <a:tab algn="l" pos="104014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Queues get mapped into user-mode processes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1" marL="768240" indent="0">
              <a:spcBef>
                <a:spcPts val="711"/>
              </a:spcBef>
              <a:buNone/>
              <a:tabLst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  <a:tab algn="l" pos="1040148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53520" indent="-353520">
              <a:spcBef>
                <a:spcPts val="825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Eliminates interrupts/syscalls/context switches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1" marL="768240" indent="-295200">
              <a:spcBef>
                <a:spcPts val="711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  <a:tab algn="l" pos="104014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Can also do zero-copy tx from user-mode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76120" y="420840"/>
            <a:ext cx="848340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42004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Virtual Interfaces and Protection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47280" y="1547280"/>
            <a:ext cx="892332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marL="353520" indent="-353520">
              <a:spcBef>
                <a:spcPts val="825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68680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ahoma"/>
              </a:rPr>
              <a:t>NIC has many Virtual Interfaces (VIs)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1" marL="768240" indent="-295200">
              <a:spcBef>
                <a:spcPts val="711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68680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ahoma"/>
              </a:rPr>
              <a:t>VI = Filter + DMA queue + event queue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1" marL="768240" indent="0">
              <a:spcBef>
                <a:spcPts val="711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68680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53520" indent="-353520">
              <a:spcBef>
                <a:spcPts val="825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68680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ahoma"/>
              </a:rPr>
              <a:t>VIs largely about 'protection'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1" marL="768240" indent="-295200">
              <a:spcBef>
                <a:spcPts val="711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68680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ahoma"/>
              </a:rPr>
              <a:t>Allow untrusted entities to access the NIC without compromising system integrity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1" marL="768240" indent="-295200">
              <a:spcBef>
                <a:spcPts val="711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68680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ahoma"/>
              </a:rPr>
              <a:t>VIs mapped into untrusted entity’s address space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1" marL="768240" indent="0">
              <a:spcBef>
                <a:spcPts val="71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68680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53520" indent="-353520">
              <a:spcBef>
                <a:spcPts val="825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68680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ahoma"/>
              </a:rPr>
              <a:t>Traditionally 'untrusted entity' means user process    ... but it might equally mean a guest VM kernel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39440" y="33984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42004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r>
              <a:rPr b="0" lang="en-GB" sz="4900" spc="-1" strike="noStrike">
                <a:solidFill>
                  <a:srgbClr val="000000"/>
                </a:solidFill>
                <a:latin typeface="Times New Roman"/>
              </a:rPr>
              <a:t>Xen: I/O via Dom0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39440" y="1631880"/>
            <a:ext cx="860724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spcBef>
                <a:spcPts val="825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42004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All 'real' drivers live in Dom0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marL="376200" indent="-376200">
              <a:spcBef>
                <a:spcPts val="825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42004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DomU kernels have pseudo drivers that communicate with Dom0 via the hypervisor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marL="376200" indent="-376200">
              <a:spcBef>
                <a:spcPts val="825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42004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Necessary because only Dom0 is 'trusted'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2590920" y="4141800"/>
            <a:ext cx="1081080" cy="15843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om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248000" y="4141800"/>
            <a:ext cx="1081080" cy="1584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omU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72000" y="4140360"/>
            <a:ext cx="1081080" cy="1584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omU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024360" y="5869080"/>
            <a:ext cx="3600360" cy="2887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590920" y="6300720"/>
            <a:ext cx="4033800" cy="2890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Hardwa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06560" y="5292720"/>
            <a:ext cx="1944720" cy="1152360"/>
          </a:xfrm>
          <a:custGeom>
            <a:avLst/>
            <a:gdLst/>
            <a:ahLst/>
            <a:rect l="l" t="t" r="r" b="b"/>
            <a:pathLst>
              <a:path w="1225" h="726">
                <a:moveTo>
                  <a:pt x="1225" y="46"/>
                </a:moveTo>
                <a:lnTo>
                  <a:pt x="1225" y="454"/>
                </a:lnTo>
                <a:lnTo>
                  <a:pt x="363" y="454"/>
                </a:lnTo>
                <a:lnTo>
                  <a:pt x="363" y="0"/>
                </a:lnTo>
                <a:lnTo>
                  <a:pt x="0" y="0"/>
                </a:lnTo>
                <a:lnTo>
                  <a:pt x="0" y="726"/>
                </a:lnTo>
              </a:path>
            </a:pathLst>
          </a:custGeom>
          <a:noFill/>
          <a:ln w="44280">
            <a:solidFill>
              <a:srgbClr val="339966"/>
            </a:solidFill>
            <a:prstDash val="dash"/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45160" y="5802480"/>
            <a:ext cx="1517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Hypervis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76120" y="563040"/>
            <a:ext cx="8483400" cy="8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42004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r>
              <a:rPr b="0" lang="en-GB" sz="4900" spc="-1" strike="noStrike">
                <a:solidFill>
                  <a:srgbClr val="000000"/>
                </a:solidFill>
                <a:latin typeface="Times New Roman"/>
              </a:rPr>
              <a:t>But with SolarStorm...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39440" y="1402920"/>
            <a:ext cx="919620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spcBef>
                <a:spcPts val="825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68680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ahoma"/>
              </a:rPr>
              <a:t>Accelerated routes set up in Dom0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1" marL="817560" indent="-314280">
              <a:spcBef>
                <a:spcPts val="711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68680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ahoma"/>
              </a:rPr>
              <a:t>Then DomU can access hardware directly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376200" indent="-376200">
              <a:spcBef>
                <a:spcPts val="825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68680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ahoma"/>
              </a:rPr>
              <a:t>DomU can access hardware directly + safely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1" marL="817560" indent="-314280">
              <a:spcBef>
                <a:spcPts val="711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68680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ahoma"/>
              </a:rPr>
              <a:t>At least most of the time; still slow path via Dom0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2590920" y="4141800"/>
            <a:ext cx="1081080" cy="15843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om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248000" y="4141800"/>
            <a:ext cx="1081080" cy="1584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omU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472000" y="4140360"/>
            <a:ext cx="1081080" cy="1584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omU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024360" y="5869080"/>
            <a:ext cx="3600360" cy="2887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590920" y="6300720"/>
            <a:ext cx="4033800" cy="2890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Hardwa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806560" y="5292720"/>
            <a:ext cx="1729080" cy="1152360"/>
          </a:xfrm>
          <a:custGeom>
            <a:avLst/>
            <a:gdLst/>
            <a:ahLst/>
            <a:rect l="l" t="t" r="r" b="b"/>
            <a:pathLst>
              <a:path w="1225" h="726">
                <a:moveTo>
                  <a:pt x="1225" y="46"/>
                </a:moveTo>
                <a:lnTo>
                  <a:pt x="1225" y="454"/>
                </a:lnTo>
                <a:lnTo>
                  <a:pt x="363" y="454"/>
                </a:lnTo>
                <a:lnTo>
                  <a:pt x="363" y="0"/>
                </a:lnTo>
                <a:lnTo>
                  <a:pt x="0" y="0"/>
                </a:lnTo>
                <a:lnTo>
                  <a:pt x="0" y="726"/>
                </a:lnTo>
              </a:path>
            </a:pathLst>
          </a:custGeom>
          <a:noFill/>
          <a:ln w="12600">
            <a:solidFill>
              <a:srgbClr val="339966"/>
            </a:solidFill>
            <a:prstDash val="dash"/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745160" y="5802480"/>
            <a:ext cx="1517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Hypervis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753080" y="5292720"/>
            <a:ext cx="0" cy="1008000"/>
          </a:xfrm>
          <a:prstGeom prst="line">
            <a:avLst/>
          </a:prstGeom>
          <a:ln w="44280">
            <a:solidFill>
              <a:srgbClr val="00ff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39440" y="33984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42004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Front-end and back-end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60000" y="1547280"/>
            <a:ext cx="9575640" cy="523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spcBef>
                <a:spcPts val="825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42004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ahoma"/>
              </a:rPr>
              <a:t>Front-end driver in DomU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1" marL="817560" indent="-314280">
              <a:spcBef>
                <a:spcPts val="711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42004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ahoma"/>
              </a:rPr>
              <a:t>Where possible, interacts with h/w directly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2" marL="1260360" indent="-252360">
              <a:spcBef>
                <a:spcPts val="663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42004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This is known as “fast path”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1260360" indent="-252360">
              <a:spcBef>
                <a:spcPts val="663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42004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Otherwise packets routed via Dom0: “slow path”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1260360" indent="-252360">
              <a:spcBef>
                <a:spcPts val="663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42004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Need to be careful about Tx traffic for local machin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817560" indent="0">
              <a:spcBef>
                <a:spcPts val="711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42004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76200" indent="-376200">
              <a:spcBef>
                <a:spcPts val="825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42004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ahoma"/>
              </a:rPr>
              <a:t>Back-end driver lives in Dom0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1" marL="817560" indent="-314280">
              <a:spcBef>
                <a:spcPts val="711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42004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ahoma"/>
              </a:rPr>
              <a:t>Sets up VI per guest VM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2" marL="1260360" indent="-252360">
              <a:spcBef>
                <a:spcPts val="663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42004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Installs filters “on-demand” as traffic flows in/out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1260360" indent="-252360">
              <a:spcBef>
                <a:spcPts val="663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42004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Enforces quotas on front-end driver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311640" y="1332000"/>
            <a:ext cx="3816360" cy="4032000"/>
          </a:xfrm>
          <a:prstGeom prst="rect">
            <a:avLst/>
          </a:prstGeom>
          <a:solidFill>
            <a:srgbClr val="ffcc99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60360" y="1332000"/>
            <a:ext cx="2951280" cy="4032000"/>
          </a:xfrm>
          <a:prstGeom prst="rect">
            <a:avLst/>
          </a:prstGeom>
          <a:solidFill>
            <a:srgbClr val="ccffff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248000" y="2050920"/>
            <a:ext cx="2448000" cy="2952720"/>
          </a:xfrm>
          <a:custGeom>
            <a:avLst/>
            <a:gdLst/>
            <a:ahLst/>
            <a:rect l="l" t="t" r="r" b="b"/>
            <a:pathLst>
              <a:path w="1542" h="1860">
                <a:moveTo>
                  <a:pt x="0" y="1860"/>
                </a:moveTo>
                <a:lnTo>
                  <a:pt x="0" y="0"/>
                </a:lnTo>
                <a:lnTo>
                  <a:pt x="1542" y="0"/>
                </a:lnTo>
                <a:lnTo>
                  <a:pt x="1542" y="227"/>
                </a:lnTo>
                <a:lnTo>
                  <a:pt x="363" y="227"/>
                </a:lnTo>
                <a:lnTo>
                  <a:pt x="363" y="1860"/>
                </a:lnTo>
                <a:lnTo>
                  <a:pt x="0" y="1860"/>
                </a:lnTo>
                <a:close/>
              </a:path>
            </a:pathLst>
          </a:cu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311640" y="1619280"/>
            <a:ext cx="0" cy="37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6120" y="420840"/>
            <a:ext cx="8481960" cy="8380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b">
            <a:noAutofit/>
          </a:bodyPr>
          <a:p>
            <a:pPr indent="0"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Architecture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000" y="2050920"/>
            <a:ext cx="1440000" cy="30243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ck-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ri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896000" y="2508120"/>
            <a:ext cx="1800000" cy="2495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rd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end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ri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252680" y="2027160"/>
            <a:ext cx="241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/w independ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303640" y="4282920"/>
            <a:ext cx="1944360" cy="503280"/>
          </a:xfrm>
          <a:prstGeom prst="leftRightArrow">
            <a:avLst>
              <a:gd name="adj1" fmla="val 50000"/>
              <a:gd name="adj2" fmla="val 7690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868120" y="434808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FIF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879640" y="2409840"/>
            <a:ext cx="1152720" cy="115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806560" y="2482920"/>
            <a:ext cx="1152720" cy="115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735280" y="2554200"/>
            <a:ext cx="1152360" cy="115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664000" y="2625840"/>
            <a:ext cx="1152360" cy="115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ha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1008000" y="5580000"/>
            <a:ext cx="1295640" cy="720720"/>
            <a:chOff x="1008000" y="5580000"/>
            <a:chExt cx="1295640" cy="720720"/>
          </a:xfrm>
        </p:grpSpPr>
        <p:sp>
          <p:nvSpPr>
            <p:cNvPr id="124" name=""/>
            <p:cNvSpPr/>
            <p:nvPr/>
          </p:nvSpPr>
          <p:spPr>
            <a:xfrm>
              <a:off x="1008000" y="6084720"/>
              <a:ext cx="1295640" cy="2160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V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008000" y="5580000"/>
              <a:ext cx="432000" cy="5032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Rx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440000" y="5580000"/>
              <a:ext cx="431640" cy="5032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Tx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871640" y="5580000"/>
              <a:ext cx="432000" cy="5032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Ev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936720" y="5651640"/>
            <a:ext cx="1295280" cy="720720"/>
            <a:chOff x="936720" y="5651640"/>
            <a:chExt cx="1295280" cy="720720"/>
          </a:xfrm>
        </p:grpSpPr>
        <p:sp>
          <p:nvSpPr>
            <p:cNvPr id="129" name=""/>
            <p:cNvSpPr/>
            <p:nvPr/>
          </p:nvSpPr>
          <p:spPr>
            <a:xfrm>
              <a:off x="936720" y="6156360"/>
              <a:ext cx="1295280" cy="2160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V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936720" y="5651640"/>
              <a:ext cx="431640" cy="5032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Rx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368360" y="5651640"/>
              <a:ext cx="431280" cy="5032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Tx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800000" y="5651640"/>
              <a:ext cx="431640" cy="5032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Ev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792000" y="5724360"/>
            <a:ext cx="1295640" cy="720720"/>
            <a:chOff x="792000" y="5724360"/>
            <a:chExt cx="1295640" cy="720720"/>
          </a:xfrm>
        </p:grpSpPr>
        <p:sp>
          <p:nvSpPr>
            <p:cNvPr id="134" name=""/>
            <p:cNvSpPr/>
            <p:nvPr/>
          </p:nvSpPr>
          <p:spPr>
            <a:xfrm>
              <a:off x="792000" y="6229080"/>
              <a:ext cx="1295640" cy="2160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V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92000" y="5724360"/>
              <a:ext cx="432000" cy="5032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Rx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224000" y="5724360"/>
              <a:ext cx="431640" cy="5032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Tx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655640" y="5724360"/>
              <a:ext cx="432000" cy="5032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Ev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5184720" y="5651640"/>
            <a:ext cx="1295280" cy="720720"/>
            <a:chOff x="5184720" y="5651640"/>
            <a:chExt cx="1295280" cy="720720"/>
          </a:xfrm>
        </p:grpSpPr>
        <p:sp>
          <p:nvSpPr>
            <p:cNvPr id="139" name=""/>
            <p:cNvSpPr/>
            <p:nvPr/>
          </p:nvSpPr>
          <p:spPr>
            <a:xfrm>
              <a:off x="5184720" y="6156360"/>
              <a:ext cx="1295280" cy="216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600" spc="-1" strike="noStrike">
                  <a:solidFill>
                    <a:srgbClr val="4d4d4d"/>
                  </a:solidFill>
                  <a:latin typeface="Times New Roman"/>
                </a:rPr>
                <a:t>V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184720" y="5651640"/>
              <a:ext cx="431640" cy="503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600" spc="-1" strike="noStrike">
                  <a:solidFill>
                    <a:srgbClr val="4d4d4d"/>
                  </a:solidFill>
                  <a:latin typeface="Times New Roman"/>
                </a:rPr>
                <a:t>Rx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616360" y="5651640"/>
              <a:ext cx="431280" cy="503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600" spc="-1" strike="noStrike">
                  <a:solidFill>
                    <a:srgbClr val="4d4d4d"/>
                  </a:solidFill>
                  <a:latin typeface="Times New Roman"/>
                </a:rPr>
                <a:t>Tx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048000" y="5651640"/>
              <a:ext cx="431640" cy="503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600" spc="-1" strike="noStrike">
                  <a:solidFill>
                    <a:srgbClr val="4d4d4d"/>
                  </a:solidFill>
                  <a:latin typeface="Times New Roman"/>
                </a:rPr>
                <a:t>Ev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3" name=""/>
          <p:cNvSpPr/>
          <p:nvPr/>
        </p:nvSpPr>
        <p:spPr>
          <a:xfrm flipV="1">
            <a:off x="2087640" y="5651280"/>
            <a:ext cx="309708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2087640" y="6372360"/>
            <a:ext cx="302400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60360" y="5364000"/>
            <a:ext cx="676764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305080" y="127944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om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307320" y="1279440"/>
            <a:ext cx="100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634880" y="3274920"/>
            <a:ext cx="2078280" cy="1618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 shared pag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x/Rx buf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ocal MAC tb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76120" y="420840"/>
            <a:ext cx="8481960" cy="8380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b">
            <a:noAutofit/>
          </a:bodyPr>
          <a:p>
            <a:pPr indent="0"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Front-end driver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720" y="1331640"/>
            <a:ext cx="9288720" cy="55436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marL="376200" indent="-376200">
              <a:spcBef>
                <a:spcPts val="825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fend communicates with bend over FIFOs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1" marL="817560" indent="-314280">
              <a:spcBef>
                <a:spcPts val="711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  <a:tab algn="l" pos="104014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Implemented using shared pages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376200"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76200" indent="-376200">
              <a:spcBef>
                <a:spcPts val="825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Front-end driver split into two parts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1" marL="817560" indent="-314280">
              <a:spcBef>
                <a:spcPts val="711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  <a:tab algn="l" pos="104014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Hardware dependent and independent parts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1" marL="817560" indent="-314280">
              <a:spcBef>
                <a:spcPts val="711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  <a:tab algn="l" pos="104014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H/w independent part loads h/w dependent part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2" marL="1260360" indent="-252360">
              <a:spcBef>
                <a:spcPts val="663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elects based on message from back-end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1260360" indent="-252360">
              <a:spcBef>
                <a:spcPts val="663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On Linux, this message is just name of a modul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1260360" indent="-252360">
              <a:spcBef>
                <a:spcPts val="663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Non-fatal error if h/w dependent module not found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1260360" indent="0">
              <a:spcBef>
                <a:spcPts val="663"/>
              </a:spcBef>
              <a:buNone/>
              <a:tabLst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1260360" indent="0">
              <a:spcBef>
                <a:spcPts val="663"/>
              </a:spcBef>
              <a:buNone/>
              <a:tabLst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76120" y="420840"/>
            <a:ext cx="8481960" cy="8380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b">
            <a:noAutofit/>
          </a:bodyPr>
          <a:p>
            <a:pPr indent="0"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Migration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60000" y="1331640"/>
            <a:ext cx="9433080" cy="55436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lvl="2" marL="1260360" indent="0">
              <a:spcBef>
                <a:spcPts val="663"/>
              </a:spcBef>
              <a:buNone/>
              <a:tabLst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76200" indent="-376200">
              <a:spcBef>
                <a:spcPts val="825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On migration, back-end sends ‘h/w unavailable’ message to front-end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1" marL="817560" indent="-314280">
              <a:spcBef>
                <a:spcPts val="711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  <a:tab algn="l" pos="104014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Everything then goes over slow-path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376200"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76200" indent="-376200">
              <a:spcBef>
                <a:spcPts val="825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Possibly followed by ‘new h/w available’ message at the other end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marL="376200"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76200" indent="-376200">
              <a:spcBef>
                <a:spcPts val="825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If no accelerated hardware available, or if no driver for that hardware available: slow path!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2" marL="1260360" indent="0">
              <a:spcBef>
                <a:spcPts val="663"/>
              </a:spcBef>
              <a:buNone/>
              <a:tabLst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reg Law</cp:lastModifiedBy>
  <dcterms:modified xsi:type="dcterms:W3CDTF">2006-09-19T15:10:23Z</dcterms:modified>
  <cp:revision>15</cp:revision>
  <dc:subject/>
  <dc:title>Slide 1</dc:title>
</cp:coreProperties>
</file>