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4240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8044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36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4240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8044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76120" y="420840"/>
            <a:ext cx="84819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4240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8044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36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4240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8044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76120" y="420840"/>
            <a:ext cx="84819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20840" y="3313080"/>
            <a:ext cx="9072360" cy="1222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39440" y="628200"/>
            <a:ext cx="8607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724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3" marL="176364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4" marL="2268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5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6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668760" y="7174080"/>
            <a:ext cx="3192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3120"/>
                <a:tab algn="l" pos="8061480"/>
                <a:tab algn="l" pos="9069480"/>
                <a:tab algn="l" pos="10077480"/>
                <a:tab algn="l" pos="11085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September 200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7643880" y="7149960"/>
            <a:ext cx="21002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3120"/>
                <a:tab algn="l" pos="8061480"/>
                <a:tab algn="l" pos="9069480"/>
                <a:tab algn="l" pos="10077480"/>
                <a:tab algn="l" pos="11085480"/>
              </a:tabLst>
            </a:pPr>
            <a:fld id="{2F0EFD7B-BF4C-4653-AF24-322CC61E9D20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14280" y="1217520"/>
            <a:ext cx="9597960" cy="76320"/>
          </a:xfrm>
          <a:prstGeom prst="roundRect">
            <a:avLst>
              <a:gd name="adj" fmla="val 238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4280" y="6929280"/>
            <a:ext cx="9597960" cy="76320"/>
          </a:xfrm>
          <a:prstGeom prst="roundRect">
            <a:avLst>
              <a:gd name="adj" fmla="val 238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9400" y="1539720"/>
            <a:ext cx="6721560" cy="4480200"/>
          </a:xfrm>
          <a:prstGeom prst="roundRect">
            <a:avLst>
              <a:gd name="adj" fmla="val 3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4400" y="14400"/>
            <a:ext cx="4032000" cy="550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3" marL="176364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4" marL="2268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5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6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015640" y="4427640"/>
            <a:ext cx="860580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Accelerated Xen networking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Early performance result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1433520"/>
          <a:ext cx="10080720" cy="544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33520"/>
                    <a:ext cx="10080720" cy="54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PU Usag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03280" y="1428840"/>
          <a:ext cx="89820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1428840"/>
                    <a:ext cx="89820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340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What's next?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4720" y="1427040"/>
            <a:ext cx="8987040" cy="55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Submission of patch to xen-d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Some small changes contributed alread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Convenient to fold bend and fend into mainlin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0">
              <a:spcBef>
                <a:spcPts val="71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Nice features to have in next-gen hardwar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MAC filtering (on receive and transmit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MSIX (interrupt line per guest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Local dest tx DMA-ed directly to local gues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6000" y="1426680"/>
            <a:ext cx="964872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 fontScale="94000"/>
          </a:bodyPr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olarflare does user-level networking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TCP/IP stack linked with user app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Known as </a:t>
            </a:r>
            <a:r>
              <a:rPr b="0" i="1" lang="en-US" sz="2900" spc="-1" strike="noStrike">
                <a:solidFill>
                  <a:srgbClr val="000000"/>
                </a:solidFill>
                <a:latin typeface="Tahoma"/>
              </a:rPr>
              <a:t>SolarStor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18440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mart NIC allows safe access from user-mod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Onboard IOMMU for safe DMA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Nic’s filter-table demuxes incoming packets to queu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Queues get mapped into user-mode process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0">
              <a:spcBef>
                <a:spcPts val="711"/>
              </a:spcBef>
              <a:buNone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Eliminates interrupts/syscalls/context switche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an also do zero-copy tx from user-mod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340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Virtual Interfaces and Protec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7280" y="1547280"/>
            <a:ext cx="89233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NIC has many Virtual Interfaces (VIs)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VI = Filter + DMA queue + event queu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0">
              <a:spcBef>
                <a:spcPts val="71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VIs largely about 'protection'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Allow untrusted entities to access the NIC without compromising system integrit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VIs mapped into untrusted entity’s address spac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0">
              <a:spcBef>
                <a:spcPts val="71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Traditionally 'untrusted entity' means user process    ... but it might equally mean a guest VM kern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39440" y="3398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Xen: I/O via Dom0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39440" y="16318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All 'real' drivers live in Dom0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DomU kernels have pseudo drivers that communicate with Dom0 via the hypervisor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Necessary because only Dom0 is 'trusted'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4141800"/>
            <a:ext cx="1081080" cy="158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48000" y="4141800"/>
            <a:ext cx="1081080" cy="1584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72000" y="4140360"/>
            <a:ext cx="1081080" cy="158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24360" y="5869080"/>
            <a:ext cx="3600360" cy="288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6300720"/>
            <a:ext cx="4033800" cy="289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06560" y="5292720"/>
            <a:ext cx="1944720" cy="1152360"/>
          </a:xfrm>
          <a:custGeom>
            <a:avLst/>
            <a:gdLst/>
            <a:ahLst/>
            <a:rect l="l" t="t" r="r" b="b"/>
            <a:pathLst>
              <a:path w="1225" h="726">
                <a:moveTo>
                  <a:pt x="1225" y="46"/>
                </a:moveTo>
                <a:lnTo>
                  <a:pt x="1225" y="454"/>
                </a:lnTo>
                <a:lnTo>
                  <a:pt x="363" y="454"/>
                </a:lnTo>
                <a:lnTo>
                  <a:pt x="363" y="0"/>
                </a:lnTo>
                <a:lnTo>
                  <a:pt x="0" y="0"/>
                </a:lnTo>
                <a:lnTo>
                  <a:pt x="0" y="726"/>
                </a:lnTo>
              </a:path>
            </a:pathLst>
          </a:custGeom>
          <a:noFill/>
          <a:ln w="44280">
            <a:solidFill>
              <a:srgbClr val="339966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45160" y="58024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ypervis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6120" y="563040"/>
            <a:ext cx="848340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But with SolarStorm..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39440" y="1402920"/>
            <a:ext cx="91962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Accelerated routes set up in Dom0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Then DomU can access hardware directl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DomU can access hardware directly + safely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At least most of the time; still slow path via Dom0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4141800"/>
            <a:ext cx="1081080" cy="158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48000" y="4141800"/>
            <a:ext cx="1081080" cy="1584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72000" y="4140360"/>
            <a:ext cx="1081080" cy="158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24360" y="5869080"/>
            <a:ext cx="3600360" cy="288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6300720"/>
            <a:ext cx="4033800" cy="289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06560" y="5292720"/>
            <a:ext cx="1729080" cy="1152360"/>
          </a:xfrm>
          <a:custGeom>
            <a:avLst/>
            <a:gdLst/>
            <a:ahLst/>
            <a:rect l="l" t="t" r="r" b="b"/>
            <a:pathLst>
              <a:path w="1225" h="726">
                <a:moveTo>
                  <a:pt x="1225" y="46"/>
                </a:moveTo>
                <a:lnTo>
                  <a:pt x="1225" y="454"/>
                </a:lnTo>
                <a:lnTo>
                  <a:pt x="363" y="454"/>
                </a:lnTo>
                <a:lnTo>
                  <a:pt x="363" y="0"/>
                </a:lnTo>
                <a:lnTo>
                  <a:pt x="0" y="0"/>
                </a:lnTo>
                <a:lnTo>
                  <a:pt x="0" y="726"/>
                </a:lnTo>
              </a:path>
            </a:pathLst>
          </a:custGeom>
          <a:noFill/>
          <a:ln w="12600">
            <a:solidFill>
              <a:srgbClr val="339966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45160" y="58024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ypervis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53080" y="5292720"/>
            <a:ext cx="0" cy="1008000"/>
          </a:xfrm>
          <a:prstGeom prst="line">
            <a:avLst/>
          </a:prstGeom>
          <a:ln w="442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440" y="3398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Front-end and back-end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0000" y="1547280"/>
            <a:ext cx="9575640" cy="523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Front-end driver in DomU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Where possible, interacts with h/w directl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This is known as “fast path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Otherwise packets routed via Dom0: “slow path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Need to be careful about Tx traffic for local machin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0">
              <a:spcBef>
                <a:spcPts val="71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Back-end driver lives in Dom0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Sets up VI per guest V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Installs filters “on-demand” as traffic flows in/ou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Enforces quotas on front-end drive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311640" y="1332000"/>
            <a:ext cx="3816360" cy="4032000"/>
          </a:xfrm>
          <a:prstGeom prst="rect">
            <a:avLst/>
          </a:prstGeom>
          <a:solidFill>
            <a:srgbClr val="ffcc9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0360" y="1332000"/>
            <a:ext cx="2951280" cy="4032000"/>
          </a:xfrm>
          <a:prstGeom prst="rect">
            <a:avLst/>
          </a:prstGeom>
          <a:solidFill>
            <a:srgbClr val="cc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48000" y="2050920"/>
            <a:ext cx="2448000" cy="2952720"/>
          </a:xfrm>
          <a:custGeom>
            <a:avLst/>
            <a:gdLst/>
            <a:ahLst/>
            <a:rect l="l" t="t" r="r" b="b"/>
            <a:pathLst>
              <a:path w="1542" h="1860">
                <a:moveTo>
                  <a:pt x="0" y="1860"/>
                </a:moveTo>
                <a:lnTo>
                  <a:pt x="0" y="0"/>
                </a:lnTo>
                <a:lnTo>
                  <a:pt x="1542" y="0"/>
                </a:lnTo>
                <a:lnTo>
                  <a:pt x="1542" y="227"/>
                </a:lnTo>
                <a:lnTo>
                  <a:pt x="363" y="227"/>
                </a:lnTo>
                <a:lnTo>
                  <a:pt x="363" y="1860"/>
                </a:lnTo>
                <a:lnTo>
                  <a:pt x="0" y="186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11640" y="161928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000" y="2050920"/>
            <a:ext cx="1440000" cy="302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96000" y="2508120"/>
            <a:ext cx="1800000" cy="2495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52680" y="202716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/w in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03640" y="4282920"/>
            <a:ext cx="1944360" cy="503280"/>
          </a:xfrm>
          <a:prstGeom prst="leftRightArrow">
            <a:avLst>
              <a:gd name="adj1" fmla="val 50000"/>
              <a:gd name="adj2" fmla="val 769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68120" y="43480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F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79640" y="2409840"/>
            <a:ext cx="115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2482920"/>
            <a:ext cx="115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35280" y="2554200"/>
            <a:ext cx="1152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64000" y="2625840"/>
            <a:ext cx="115236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008000" y="5580000"/>
            <a:ext cx="1295640" cy="720720"/>
            <a:chOff x="1008000" y="5580000"/>
            <a:chExt cx="1295640" cy="720720"/>
          </a:xfrm>
        </p:grpSpPr>
        <p:sp>
          <p:nvSpPr>
            <p:cNvPr id="124" name=""/>
            <p:cNvSpPr/>
            <p:nvPr/>
          </p:nvSpPr>
          <p:spPr>
            <a:xfrm>
              <a:off x="1008000" y="6084720"/>
              <a:ext cx="12956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08000" y="558000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40000" y="558000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71640" y="558000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936720" y="5651640"/>
            <a:ext cx="1295280" cy="720720"/>
            <a:chOff x="936720" y="5651640"/>
            <a:chExt cx="1295280" cy="720720"/>
          </a:xfrm>
        </p:grpSpPr>
        <p:sp>
          <p:nvSpPr>
            <p:cNvPr id="129" name=""/>
            <p:cNvSpPr/>
            <p:nvPr/>
          </p:nvSpPr>
          <p:spPr>
            <a:xfrm>
              <a:off x="936720" y="6156360"/>
              <a:ext cx="129528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36720" y="565164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68360" y="5651640"/>
              <a:ext cx="43128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00000" y="565164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792000" y="5724360"/>
            <a:ext cx="1295640" cy="720720"/>
            <a:chOff x="792000" y="5724360"/>
            <a:chExt cx="1295640" cy="720720"/>
          </a:xfrm>
        </p:grpSpPr>
        <p:sp>
          <p:nvSpPr>
            <p:cNvPr id="134" name=""/>
            <p:cNvSpPr/>
            <p:nvPr/>
          </p:nvSpPr>
          <p:spPr>
            <a:xfrm>
              <a:off x="792000" y="6229080"/>
              <a:ext cx="12956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2000" y="572436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24000" y="572436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55640" y="572436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184720" y="5651640"/>
            <a:ext cx="1295280" cy="720720"/>
            <a:chOff x="5184720" y="5651640"/>
            <a:chExt cx="1295280" cy="720720"/>
          </a:xfrm>
        </p:grpSpPr>
        <p:sp>
          <p:nvSpPr>
            <p:cNvPr id="139" name=""/>
            <p:cNvSpPr/>
            <p:nvPr/>
          </p:nvSpPr>
          <p:spPr>
            <a:xfrm>
              <a:off x="5184720" y="6156360"/>
              <a:ext cx="1295280" cy="216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84720" y="5651640"/>
              <a:ext cx="431640" cy="503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16360" y="5651640"/>
              <a:ext cx="431280" cy="503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48000" y="5651640"/>
              <a:ext cx="431640" cy="503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 flipV="1">
            <a:off x="2087640" y="5651280"/>
            <a:ext cx="309708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087640" y="6372360"/>
            <a:ext cx="3024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0360" y="5364000"/>
            <a:ext cx="6767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05080" y="127944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m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07320" y="127944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34880" y="3274920"/>
            <a:ext cx="207828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hared pa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x/Rx buf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MAC tb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Front-end driver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720" y="1331640"/>
            <a:ext cx="928872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end communicates with bend over FIFO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Implemented using shared pag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76200"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ront-end driver split into two part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Hardware dependent and independent part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H/w independent part loads h/w dependent par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lects based on message from back-e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 Linux, this message is just name of a modu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on-fatal error if h/w dependent module not f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60000" y="1331640"/>
            <a:ext cx="943308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On migration, back-end sends ‘h/w unavailable’ message to front-end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Everything then goes over slow-path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76200"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Possibly followed by ‘new h/w available’ message at the other end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76200"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If no accelerated hardware available, or if no driver for that hardware available: slow path!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reg Law</cp:lastModifiedBy>
  <dcterms:modified xsi:type="dcterms:W3CDTF">2006-09-19T15:10:23Z</dcterms:modified>
  <cp:revision>15</cp:revision>
  <dc:subject/>
  <dc:title>Slide 1</dc:title>
</cp:coreProperties>
</file>